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0C0D7-7918-4930-8CF3-F7C6664C5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18BC0-6A68-4D50-A208-800EB558D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E98EB-05FE-458A-8C07-D98B96BF7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B838C-A041-4DF7-B2A8-6B4F4C96D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12F28-880B-45F5-895B-A441312B8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B5F98-E240-4E20-8961-9D119457F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E7A7F-C275-468C-BB42-A6CBF4960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637CC-55A2-49F6-AA66-8BC3A093B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04FE8-94EC-4E92-8A37-84B6F39B0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31811-628A-4A8E-9BB0-AB6AF81B3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99F01-1DF8-4DD2-9DC5-52370C325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B5204-712D-4B64-83D9-EDE03A180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DECB5-1CC5-46FE-9EEE-B999302D31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alculus Textbook Table of Contents (pg 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90360" y="6806880"/>
            <a:ext cx="4800600" cy="23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rcRect l="27652" t="18054" r="16438" b="27787"/>
          <a:stretch/>
        </p:blipFill>
        <p:spPr>
          <a:xfrm>
            <a:off x="1219320" y="685800"/>
            <a:ext cx="4314600" cy="57150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rcRect l="30666" t="4278" r="10188" b="74385"/>
          <a:stretch/>
        </p:blipFill>
        <p:spPr>
          <a:xfrm>
            <a:off x="1600200" y="6324480"/>
            <a:ext cx="396252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alculus Textbook Table of Contents (pg 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990360" y="6806880"/>
            <a:ext cx="4800600" cy="23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rcRect l="23842" t="29686" r="10188" b="-821"/>
          <a:stretch/>
        </p:blipFill>
        <p:spPr>
          <a:xfrm>
            <a:off x="1219320" y="838080"/>
            <a:ext cx="4419360" cy="53341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rcRect l="24467" t="3369" r="1256" b="70723"/>
          <a:stretch/>
        </p:blipFill>
        <p:spPr>
          <a:xfrm>
            <a:off x="1295280" y="6248520"/>
            <a:ext cx="487692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alculus Textbook Table of Contents (pg 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990360" y="6806880"/>
            <a:ext cx="4800600" cy="23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rcRect l="24467" t="29282" r="1256" b="-793"/>
          <a:stretch/>
        </p:blipFill>
        <p:spPr>
          <a:xfrm>
            <a:off x="1066680" y="685800"/>
            <a:ext cx="4876920" cy="52578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rcRect l="20886" t="3155" r="8541" b="53979"/>
          <a:stretch/>
        </p:blipFill>
        <p:spPr>
          <a:xfrm>
            <a:off x="990720" y="5867280"/>
            <a:ext cx="480060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alculus Textbook Table of Contents (pg 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90360" y="6806880"/>
            <a:ext cx="4800600" cy="23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rcRect l="20886" t="47024" r="8541" b="20081"/>
          <a:stretch/>
        </p:blipFill>
        <p:spPr>
          <a:xfrm>
            <a:off x="990720" y="685800"/>
            <a:ext cx="48006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ackie Wetmore</cp:lastModifiedBy>
  <dcterms:modified xsi:type="dcterms:W3CDTF">2011-10-28T13:42:07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